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2FF-703B-45E8-B754-B01356A2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A46-774A-41CF-9E65-3DFDB2DE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D79-4E7D-4848-991C-A721D6A7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02D-8716-4538-A2CD-688AC68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7DE-B8B0-492F-B635-9DDE55E4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428-AE8B-4D1A-B0C2-0D5E95F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C318-E2B4-4327-973D-75306600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9C7A-C028-4F14-9F75-8BB497DD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651-7E4B-49C4-A601-6C4E69B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0BDA-6533-4C6C-A953-EA45F6B8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9FC-7CED-4B23-9FDC-9BCF2F8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758-7FB4-4C81-800B-7F87795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3CDD-8074-486B-A58B-9CB99E0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2EDE-2B4D-4EB1-985C-2EAF3FE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A73-D5D7-4740-824C-F1047FF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BD97-5A97-4E62-AD47-514260E5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27EB-A60C-44FA-9750-0E3D5085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17AE-F448-47E1-B9E6-054B42A7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CE28-22E9-46C4-9B32-F0DECF2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E6EE-5D02-4494-B921-E96E5F96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FB8B-0D6A-45A6-A03C-776F04BF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F561-58CD-434F-96A5-3D4AC572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DB6-1EE4-4BC5-8DA2-C46094CF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A545-8034-4E58-B174-07C0770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8889-F0A6-4933-80B8-F5F9500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C088-9DD6-4440-8819-41B3010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361E-3AF4-4557-8712-388416E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BF21-2D23-4509-8BB4-FD48838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BEAB-73B7-492B-87CB-7C6E5E55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DAFB-C62C-4270-A2D0-5CE8025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49C6-F106-43A9-91CB-B79DE8C5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2D08-899F-49B8-B988-978E7EFD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8E4B-94FA-4DFC-9857-C1421F88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5DC-D601-48ED-950D-403BE85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D2D2-AF6D-4EE1-82FA-FDAE3051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6437-E892-48E8-8187-D2CBA52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CB4A-B5BB-41E2-A3D9-EE52F3C5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AA6A-70EA-4A78-B6FF-D3DE2BE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4026-5857-4046-8A72-9CDAE3D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3F68-7907-4D07-B9E9-19722E9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B456-1467-42BE-A8CB-87B9F09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57E2-2C04-446E-866F-7F17BB3A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8CEA-DF58-4231-AE7F-E6FF453E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7B45-2450-46BC-AA67-07D0E79D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107-04F1-49FB-8010-87F1A0B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25B3-E2B3-491D-B04F-2CE38BE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FDF7F-959D-4D0D-88A9-F5C9FC5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3F9A-9D8B-4120-9B83-1FA2C7D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45DD-879F-4CD7-83CE-5FE743D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1FC6-53AC-4CCB-B0D5-EA2DD72B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A343-F150-4F45-BC11-9A56DDC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6B4E-8302-4652-A21D-557004D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1112-580E-46B1-A007-094BF48D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1B44-322D-4C40-887D-7E2AC3A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0860-8F17-4CD1-8930-A31E6326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B36-5EC6-4C51-86FD-4A903623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09559-3FA9-4640-A8F8-95CDE547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87BC-5DFB-4556-BC2B-6AF0BBBB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BC6D-6EED-4629-9B2F-B7991E2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B0EC-993E-4593-BB7A-64B74FC7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A74B-7FF4-42D2-AB20-4C1A29B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2A48-8898-4DD4-8E3E-8C09DF8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B714-4E9C-4CC9-8E38-4D68B57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58E0-6651-4082-8A93-0CC64AD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F644-C408-4949-9101-1C0ECCC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944D-CB76-4C78-9B3F-1C5C558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803-C87B-401D-ADE9-B996F836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5478-F25B-4AFE-BACD-3A4DC9AD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6C21-404B-4965-B515-1A7F746D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459B-B243-49DE-AE26-09256119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2F91-55DB-48A5-8C34-6E10D878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203F-86A7-408E-A31D-325DBABE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9B030-151F-42D1-A214-2F3CA04B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D161-8FA3-4B70-BC03-2BAF8D55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896A-C516-4043-B8DE-2874BAE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7820-8544-4EEE-83C3-C6F2412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422D-C02B-4A64-82C9-209FB17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E20-2FA4-41DE-83DC-B543D93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09B5-1E7E-4F13-B48B-D0C5481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C3B5-A2A2-4392-8739-6E959A7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31804-3E84-475C-8D00-7399EFA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71F2-DB75-4D5A-8C2F-FB4445A4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5637-AB48-4CD6-AA29-E95407DB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507C-E893-46D1-810B-B0F36393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1F387-15EA-4691-B17E-408C3D84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6C2C-1E0C-405B-8BAE-1A76558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EA23-8643-40FB-9229-06E0DA2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1F67-2E4B-4AF4-8B58-12E1E3E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BA1-2B02-4281-A30A-ED06B9B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9CD9-CB87-4A71-A3E5-07F8023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F48B-151F-4AB5-8AF6-DB39F7E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29CE-3FDA-40C9-BB8F-C32C300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83CDE-6CD3-4E4A-A98D-312E9F1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2F1F-2E23-4BF8-9EBA-0766F45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FC2F-05FB-4A96-9308-E6253725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0135-28AD-4634-BBFA-C0185857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5B9-2954-43C5-BEAE-E132380ECA8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601-D3AB-4BB6-9DA4-D666A5730D7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D5E-412B-4F31-944C-DA5AFB4C3A5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CE7-73D2-478B-B836-CF12788E9A9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7BA8-C0F4-4C22-BE00-432775FA90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C2B2-982D-47CF-AA7F-2FED031675B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BD4-6857-40B2-8DFA-D5194AA6EF1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660-2B21-4810-AABA-75886AFEE61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6870600" cy="2865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19320" y="3857760"/>
            <a:ext cx="685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5" descr="dmitrij-lihachev-2.jpg"/>
          <p:cNvPicPr/>
          <p:nvPr/>
        </p:nvPicPr>
        <p:blipFill>
          <a:blip r:embed="rId1"/>
          <a:stretch/>
        </p:blipFill>
        <p:spPr>
          <a:xfrm>
            <a:off x="3387600" y="2071800"/>
            <a:ext cx="2787840" cy="393516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3" descr=""/>
          <p:cNvPicPr/>
          <p:nvPr/>
        </p:nvPicPr>
        <p:blipFill>
          <a:blip r:embed="rId2"/>
          <a:stretch/>
        </p:blipFill>
        <p:spPr>
          <a:xfrm>
            <a:off x="396720" y="268200"/>
            <a:ext cx="83329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Д. Лихачев с родителям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d1014"/>
                </a:solidFill>
                <a:latin typeface="Lucida Sans Unicode"/>
              </a:rPr>
              <a:t>Дмитрий Сергеевич родился 28 ноября 1906 года в Санкт-Петербурге, в интеллигентной семье.  Семья жила скромно, но родители Дмитрия были увлечены балетом и, даже отказываясь от чего-то, регулярно посещали спектакли Мариинского театр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d1014"/>
                </a:solidFill>
                <a:latin typeface="Lucida Sans Unicode"/>
              </a:rPr>
              <a:t>В 1914 г. Дмитрий поступил в гимназию. В 1923 г. он успешно сдал экзамены на этнолого-лингвистическое отделение университет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Содержимое 8" descr="3HStgIE22l.jpg"/>
          <p:cNvPicPr/>
          <p:nvPr/>
        </p:nvPicPr>
        <p:blipFill>
          <a:blip r:embed="rId1"/>
          <a:stretch/>
        </p:blipFill>
        <p:spPr>
          <a:xfrm>
            <a:off x="4645080" y="2151000"/>
            <a:ext cx="4041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8" descr="189.jpg"/>
          <p:cNvPicPr/>
          <p:nvPr/>
        </p:nvPicPr>
        <p:blipFill>
          <a:blip r:embed="rId1"/>
          <a:stretch/>
        </p:blipFill>
        <p:spPr>
          <a:xfrm>
            <a:off x="563400" y="1481040"/>
            <a:ext cx="8017200" cy="4525920"/>
          </a:xfrm>
          <a:prstGeom prst="rect">
            <a:avLst/>
          </a:prstGeom>
          <a:ln w="0">
            <a:noFill/>
          </a:ln>
        </p:spPr>
      </p:pic>
      <p:pic>
        <p:nvPicPr>
          <p:cNvPr id="380" name="Заголовок 6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10" descr="img6.jpg"/>
          <p:cNvPicPr/>
          <p:nvPr/>
        </p:nvPicPr>
        <p:blipFill>
          <a:blip r:embed="rId1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382" name="Заголовок 3" descr=""/>
          <p:cNvPicPr/>
          <p:nvPr/>
        </p:nvPicPr>
        <p:blipFill>
          <a:blip r:embed="rId2"/>
          <a:stretch/>
        </p:blipFill>
        <p:spPr>
          <a:xfrm>
            <a:off x="396720" y="268200"/>
            <a:ext cx="829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6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448840" cy="1152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6840" y="5410080"/>
            <a:ext cx="4040280" cy="90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39240" bIns="3924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44720" y="5410080"/>
            <a:ext cx="4041720" cy="90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39240" bIns="3924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6" name="Содержимое 11" descr="17409682-avtor-chelovek-v-literature-drevney-rusi-17409682.jpg"/>
          <p:cNvPicPr/>
          <p:nvPr/>
        </p:nvPicPr>
        <p:blipFill>
          <a:blip r:embed="rId2"/>
          <a:stretch/>
        </p:blipFill>
        <p:spPr>
          <a:xfrm>
            <a:off x="1143000" y="1444680"/>
            <a:ext cx="2668680" cy="394164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12" descr="001.jpg"/>
          <p:cNvPicPr/>
          <p:nvPr/>
        </p:nvPicPr>
        <p:blipFill>
          <a:blip r:embed="rId3"/>
          <a:stretch/>
        </p:blipFill>
        <p:spPr>
          <a:xfrm>
            <a:off x="5286240" y="1500120"/>
            <a:ext cx="3000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1" name="Содержимое 12" descr="72_big.jpg"/>
          <p:cNvPicPr/>
          <p:nvPr/>
        </p:nvPicPr>
        <p:blipFill>
          <a:blip r:embed="rId2"/>
          <a:stretch/>
        </p:blipFill>
        <p:spPr>
          <a:xfrm>
            <a:off x="457200" y="1357200"/>
            <a:ext cx="4040280" cy="3573720"/>
          </a:xfrm>
          <a:prstGeom prst="rect">
            <a:avLst/>
          </a:prstGeom>
          <a:ln w="0">
            <a:noFill/>
          </a:ln>
        </p:spPr>
      </p:pic>
      <p:pic>
        <p:nvPicPr>
          <p:cNvPr id="392" name="Содержимое 13" descr="i_001.jpg"/>
          <p:cNvPicPr/>
          <p:nvPr/>
        </p:nvPicPr>
        <p:blipFill>
          <a:blip r:embed="rId3"/>
          <a:stretch/>
        </p:blipFill>
        <p:spPr>
          <a:xfrm>
            <a:off x="5343480" y="1444680"/>
            <a:ext cx="26449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8" descr="img8.jpg"/>
          <p:cNvPicPr/>
          <p:nvPr/>
        </p:nvPicPr>
        <p:blipFill>
          <a:blip r:embed="rId1"/>
          <a:stretch/>
        </p:blipFill>
        <p:spPr>
          <a:xfrm>
            <a:off x="500040" y="428760"/>
            <a:ext cx="8215200" cy="60721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Lucida Sans Unicode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1T14:31:51Z</dcterms:created>
  <dc:creator>дом</dc:creator>
  <dc:description/>
  <dc:language>en-US</dc:language>
  <cp:lastModifiedBy>дом</cp:lastModifiedBy>
  <dcterms:modified xsi:type="dcterms:W3CDTF">2022-11-28T06:21:00Z</dcterms:modified>
  <cp:revision>5</cp:revision>
  <dc:subject/>
  <dc:title>Дмитрий Сергеевич Лихачев (1906-1999)</dc:title>
</cp:coreProperties>
</file>